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7D8A-8175-4518-A390-14A84D2DF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0996-6ABD-4DB2-AEB4-1AC54439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891B-19AA-4E3D-9CFD-76AEDE92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0BFD-D86F-4426-A795-2A320F64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228-637E-4B57-9342-37F3DCE4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C4C-EDF9-4B5A-95D0-7906839C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4723-7A9C-4FA7-94FC-0E1D44A7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07F-CA77-4907-A287-AD267F24E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552-C11C-4B5D-93B9-2D278E6A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B48-E6EF-4EC8-A768-2F7B7E1F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36860-DA0A-462A-89F0-B79569E3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88592-DDC8-4607-9243-B24C250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7D11-1E84-4D5A-8EF5-F09D9FF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6213F-CAAA-4C6E-958F-9481C5E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EE336-EA4C-4622-AC56-F6608DF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E6980-1A46-4A22-A270-4DB8BA0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F96C-BC8C-4611-8A26-2E9060A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88C3E-BC5B-4F1C-8DCE-83CF707E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7E1AB-B7DF-415C-8F6C-391D38F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96AC4-F4DA-4D4E-B515-7F1528A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2A7-4105-432A-8546-52A2630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DCA96-B7DE-4118-AA59-3656F09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858C2-CAA6-4315-9B22-05A8989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51392-0281-4EA5-9CF7-D8662695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EF299-18B6-4271-B76F-CAC2F58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6719A-0AEF-4637-A147-C887BDDC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1D28-0BC5-48BB-94F3-C296037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645B5-067A-438F-8297-E448A9D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309E2-42C6-4901-9028-A6B4F4B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89A4C-DDC6-4A31-85DD-64DF4FA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0FDD-535B-47F0-BBDA-39EDF9B5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471-64C0-4F35-A16E-2EA4FEE1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F55A-66A8-4832-82E9-07CB12F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FABE3-3910-4C37-9A19-F2006F2D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420E-A702-491D-8024-85C7EEA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D184-3809-4AF9-A744-899E2BB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F778-0D48-43F8-AC71-23A7802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52714-4F6A-453D-8200-FF6C932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3D7A8-7C30-49EB-911E-83C125B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2874-F6C4-4C5A-BD71-9EE93E6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67109-C4CC-4C18-B952-0C1575A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A2DF1-72FD-421A-A008-7FB8DF1D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B3A2-A24E-4624-BCF6-7FE48C6B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46940-60DE-4D56-86BC-C114DA6B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9F517-C400-406E-9D37-ACA881CC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193B9-350D-412A-8A48-7447652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AB748-DFC7-4950-A6B3-1AB3BE6C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FE454-CF87-4B96-B6FF-36EA4039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E3DE3-D2CB-4C50-9990-6B0B9876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BBD4D-B9A2-4F4C-B733-0980D8E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BE631-70A6-4621-9AC1-CA49C99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7AF1B-3418-4824-AC6A-5B0FB32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005DD-7191-4F69-8535-844EBE2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AE4-29F3-4D78-97F1-8A49CB9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93822-E144-404A-AC17-B58F143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48EB7-76EC-4FF7-B066-012267B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DE511-282E-4F98-B4ED-B80D5BB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E8E4-619A-46E9-A668-4F63BB23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0CAC-C1D1-4E6F-9DD6-2BDB3E05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B1DD-D436-439A-818E-10862D3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F99-B640-4809-88D7-91353DD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48FD-52A9-4C9D-AFDA-4BF3717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6A75-A25C-4E3A-982B-220E6BE6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C24-41C3-4989-8E69-31ED339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F5B-1E95-452B-B7DF-C53A2D4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FED1-D167-43C2-B48D-0658292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8CD0-EBF7-48FA-948E-7526E78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E0D6-0EEE-4372-B16A-675D8751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3A31-1814-492E-B80A-010784E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0262-4924-4B59-B149-2DB6ABB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388C-A74A-4651-B091-931DCB32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2D7C-74EE-45E3-8254-71CF5F1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2DF8-7831-4E15-BF44-F4DAAD47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801-5517-40A2-8DBA-81D0417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BCF6-DA9A-4F0F-9B57-F77CF88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DA1-09E5-4ED7-BA3C-B0D09ED9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A8AB-799B-44DD-81AB-D4B4413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3F4E-83C3-4249-A228-E1F1B7A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2E8A-A0B5-497A-8913-EF3C619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FA58-FE82-428D-9E10-C8E265F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EC6E-C11C-4CF1-A7FF-BBE5BA8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14BF-56C9-4215-B780-A36789B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12EC-375F-49BF-AC25-219BD23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9104-7AA0-4527-A9D7-D7E2411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2157-D983-4903-B875-03178A56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4559-74A0-4681-8FFA-F25847C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E04-08F6-4BBC-BD6D-DC57FCF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FC1B-06A9-4CFE-870D-913CC30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E9A3-A0F4-42A4-BD71-120F998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071A-84DA-4B88-B4E3-D84A7EA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9508-B5C1-46CB-A2B3-EED61086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AE1F-B177-44BC-B0DC-5D7FFF3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F9CC-20A0-4204-A0FC-F21FCBC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D1F7-3125-4345-A5E7-5060BB8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E047-2FAA-427E-A9EE-B926EAAF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E453-991D-4C01-B630-0C302C68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22C9-B4E3-4705-AFF1-4B459A7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84C-4772-45EA-B241-D184C73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FBCC-57AE-49C2-8968-7841EFF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7705-7716-47CA-AB50-310281F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6527-107F-4741-876F-CF096826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63B01-5EFE-40CF-B6B6-ABDA1A6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2616-181B-4B50-9BE6-41FBE9A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FAD5-43CE-4BD2-BE21-2C756FF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01EE-BE1F-4C81-A92F-0CAF2BF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F65E-68A2-4461-A878-3D41BE21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76CF-D94C-49A3-AB9F-1943019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CB01-2AB3-4463-8C70-1B0091BB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59E-AD60-4DFC-9632-4359BC6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E65C-13EA-4CB4-A3AA-608F526D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DBE15-601C-48C4-A94A-F2F271DD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D5E81-C39E-4565-A0BD-1408F124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46075-7AFD-443F-8BCF-1D48695E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EAD11-FEA7-41E7-A3BC-69F0407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E221D-29E9-4DF8-8BA7-F48CAF8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EA455-314C-470E-BF86-DA63074C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C3C19-A587-42A5-B7C0-E91BCEE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B4AB8-0101-4DFF-93FA-54FB9A15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77306-9B5F-4FB1-A666-B11F8F7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8AD-1176-4920-B706-6C55394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FD55E-924A-4811-954F-B1616F4B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C406D-9A15-41AC-8CBB-0C4819BF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CAC15-00EA-49DB-A349-CE9A8E0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6CFD-C2D3-4DDE-804D-937E9682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BA07-F905-4342-9EAE-762005D1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3F05-61C2-45B9-9DAB-6565BB2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57C8-1F8B-48B0-94E6-B796E84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056A-49FB-440A-8A81-E57AFD9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4B1D-D99F-4EA1-9DA9-27B8150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DFEE-AF04-44B2-98B9-712ED9D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5E2-3688-4328-8502-822D805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F3D9-A413-4E11-B604-B94A142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7485-34E7-4D5C-85BC-466C57C7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62005-4054-4A92-B8C1-1D7179BB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8D13-BB58-4B78-BA18-F90197D2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2515-E056-4B10-BA2B-B5F318B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BA1B-ECA9-4F42-A313-15D6CFC0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2B90-B6E3-4638-A14E-5A334F6D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76C13-E8F0-496E-9F96-0295E8E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3F38-9AE8-4351-A96F-CF29497A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712E2-4379-4FE3-BDC1-25A2276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315-D22A-4214-AB5B-484E63D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5905-E383-4D5B-9B49-545C1BD3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2FD3-54CC-4C11-917B-23B2FE6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BD46-318C-43A8-8F3F-BD89948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85D10-AD4A-42D3-9947-434B8CD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D700-E8CA-45B1-8079-6E6D223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A3DB-6838-43AE-9031-ECA0F0AB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646A-926E-4AD5-9FBE-63C40BCB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9F38-F7E8-49BC-B40D-581DAA25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3498A-562F-410C-96EF-541B0A27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DDB26-0B93-4427-A3FB-89C88396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D25B-2929-4BCD-A7CA-07ACA8CAF39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15B-8008-4F7A-A883-96606241BAB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1E5-B17A-4257-B112-A9C9432C6B7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838-39ED-4E37-B588-961A0EE5A9D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B39E-342B-408D-9814-2EB01F66A9E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2A8-1A45-4B68-A527-BC367B31E96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D6DE-3F5E-407C-8C9F-E052FFDB6E6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376-5832-4258-9CE2-30D95CBAC40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221C-13FF-4DA0-8E8D-DD7DA50670D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A69-6C8F-4B84-87C4-8C945B1581D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23B-85FC-4E1A-BE86-85B9295C38C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2615-6056-4F7A-99FC-DC1AE77DFC2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8B4-82AA-4374-B67A-5F15E9DCB7C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F83-EFD6-49E6-8FE2-DEB58A68926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F9E-8593-49B2-B6E4-0E9DB3F4C36E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C9E-EF81-4F0F-AD4C-8690C1DFDE3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BCAD-0D5E-4344-B90D-124769B16A9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AAC-2941-41A9-809E-EEB0CE932F7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DFC4-4E7E-4361-AEA6-1F67CE7ED07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03E2-A55B-40A7-9F14-6BC75C70877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01C-0905-4328-A605-D77069859BAE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1A17-2830-4638-9DA0-FE23A4FF7FF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D1E-DBBB-4A49-9454-BBA3A3DB64D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B77E-0212-4AB9-9074-1EEDE3BA911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arvard.edu/" TargetMode="External"/><Relationship Id="rId2" Type="http://schemas.openxmlformats.org/officeDocument/2006/relationships/hyperlink" Target="http://en.wikipedia.org/wiki/Wikipedia:Contact_us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Evaluating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Web Sourc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6840" y="4067280"/>
            <a:ext cx="3233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Presenting b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Amal Alha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Ayra Almeid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Zarina Sushin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17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Examples of online sources: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98108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harvard.ed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http://en.wikipedia.org/wiki/Wikipedia:Contact_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beastobama.com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3"/>
          <p:cNvSpPr/>
          <p:nvPr/>
        </p:nvSpPr>
        <p:spPr>
          <a:xfrm>
            <a:off x="-1506600" y="35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onclusion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220932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Even though the World Wide Web gives a lot information for research papers it can be easily copied with omissions and errors. If you want to do online research you need to have a critical thinking in choosing the right sour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ib.berkeley.edu/TeachingLib/Guides/Internet/Evaluate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lib.nmsu.edu/instruction/evalcrit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people.wcsu.edu/reitzj/res/evalweb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ibrary.ucla.edu/libraries/college/11605_12337.cf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esley.edu/library/guides/research/evaluating_web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Online Research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Advantages   vs.   Disadvantag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686880" y="3014640"/>
            <a:ext cx="260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onven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Va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6"/>
          <p:cNvSpPr/>
          <p:nvPr/>
        </p:nvSpPr>
        <p:spPr>
          <a:xfrm>
            <a:off x="5236200" y="3014640"/>
            <a:ext cx="260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5"/>
          <p:cNvSpPr/>
          <p:nvPr/>
        </p:nvSpPr>
        <p:spPr>
          <a:xfrm flipH="1">
            <a:off x="4635000" y="2846520"/>
            <a:ext cx="1800" cy="279072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riteria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for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Evaluating Web Resources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Objectivity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Curre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28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Authorit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795320"/>
            <a:ext cx="822960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author or sponsoring organiz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page sign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Are they have a good reputation? Are they well-known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information about the author or a sponsor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 phone number or an address to contact for more inform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website’s domain officia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com - Commerci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edu -  Educa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org - Organiza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gov/.mil - Govern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net - Internet Service provid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/~ or % - personal nam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Accurac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editor or someone who can verify the information present in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information disagree with the information already gather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information reliable and error-fre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Objectivit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y advertising on the pag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What is the purpose of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content show bias? Is the bias explicit or hidde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urrenc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page dat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f so, when was the last upd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ow current are the links? Have some expired or moved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overage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What topics are covered by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Are the topics discussed in-depth or just summariz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ow does the website compare in content to similar websites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indication that the page has been completed, and is not still under construction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Design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content well-organiz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overall design easy to comprehen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site contain pop-up windows that distracts user’s atten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advertising pack and hide the main content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8:38:54Z</dcterms:created>
  <dc:creator>Ayra Almeida</dc:creator>
  <dc:description/>
  <cp:keywords/>
  <dc:language>en-US</dc:language>
  <cp:lastModifiedBy>Ayra Almeida</cp:lastModifiedBy>
  <dcterms:modified xsi:type="dcterms:W3CDTF">2011-07-25T20:06:45Z</dcterms:modified>
  <cp:revision>67</cp:revision>
  <dc:subject/>
  <dc:title>Slide 1</dc:title>
</cp:coreProperties>
</file>